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0C9-B873-41FE-815E-9A061AF8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AEA-643F-4E2D-8FA4-17B52C5C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68B-DBBA-4771-9827-47E81095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7E2-259F-419C-9365-CA060CF5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B06C-49BD-4F3C-AFA4-3FE0980B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5292-741C-44E1-80DC-6C8B791F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506A-609D-4AEE-946A-C5C7ECCC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9F7-7243-4D8D-82B6-28AF0C5B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BA7-9245-41CE-B2FF-CC10AB4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BC3E-8F67-4C34-B82D-70F69ED0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1320-F21A-4E8C-B8A5-949F6648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2B3-5BA0-4A35-AF92-82E45BAB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B709-8D26-47D5-9073-A0AA24F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E1DC-65F7-4AAB-831B-56E0F5B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2C91-4707-410B-8A30-EFA2FC32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CE21-3E4C-40C3-B132-D8C3294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FF7D-8B95-423C-8284-9020E201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0E793-5B80-45D2-8357-6D0A72A0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B7869-CF81-401D-9B99-939A869C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0900D-5F77-4D49-A09F-11147808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69480-3BA3-428E-862D-52631C57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69783-C137-4938-A335-16A0445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AF1-90AC-4EF7-9CE1-9C37C1D0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81F9C-0412-48EB-B205-1BB3BD2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565BB-7377-44B8-B094-EAFD638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65DC9-9929-4B24-87BE-0C0A5A4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1212E-8AA2-42D0-8C1F-23935FAF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31262-B7B8-44DA-8641-D39E2A55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EF3A0-8C8C-4056-80EE-F8CA1E62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E831A-395E-40B5-AADC-E8152DE9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3806-C0C2-4179-B538-F4356196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B54F2-B6C4-4A59-9D0C-DC2F4BEA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C6E3F-DFF6-41F5-A74F-2AAEB187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345-346E-4D95-B4C6-5F0E8178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38E3-272E-4AC6-8317-CC18B51B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1C78-BBE8-42FF-8287-06E61FD8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56C18-ED75-44F3-8250-16DDB5EE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6C64-69AD-48BC-A121-B8A1A39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CA68-5CB9-4F20-A8D9-C1E0F8D9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6625-2FE0-42CF-98FD-D4179517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B632-45F2-45F8-BB51-C23325D9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B57CD-A680-44B2-AA16-483AB1A0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71A9-C2C2-4BF3-BBDE-93FC7045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A1DE2-4A24-425A-B4F5-1490615D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E29-566D-4985-B6E8-FBD370D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E5C86-B2F4-4D2F-8290-10157F36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BAD7F-F7E6-4FE2-A348-96695172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233C5D-9948-4E97-916A-563BE927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87DE80-32E0-4737-A4B3-9FE18E71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E1794-D387-4930-8E35-E1023AF8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BDF8B-1C03-4F7A-908C-AAC2888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7CA79B-D3C8-4977-B548-59C8CF35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98955-35E1-4A4B-8197-254C78BC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3CECE-B42F-4563-8CB2-B96CD33E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08043-0473-4D39-AB99-70B68921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876-DA90-4F5E-AA68-7E6B600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DDFF7C-0EB3-4D0B-A494-9B082C9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4F8BD-FB50-4CDF-837D-95DBA0AF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642EB2-AC82-473D-8E21-54408024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C055D-A85D-4FB4-BD2B-81FAB25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EC9DF-F950-4512-A23D-52AB452F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AE653-3E84-499A-B81A-96EF39B6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37A06-003D-418E-9BD1-DD22287B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ABB8C2-84BF-4BF7-A01C-15195898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262A4-6EE6-402F-BB27-B7AA80BE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E3481-00DA-477E-8AD5-610E8161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B6C-7AB6-4F22-BC54-DFE9289D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6A3FB-0848-48B1-B717-1A5B0E2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58EF3-8BEC-4407-BC25-17F190E2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F4E8D-631A-4047-991E-5B8094D0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B303C-F55F-497C-9896-75CD33AB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EE915-D34E-42C1-99E9-D874B143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AD25D-4BF6-4B17-A32B-F5C77935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51742D-2722-4399-9538-26AF7C2C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71208-D1A1-4BD3-A19A-A019BEF8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4762A-7FB4-42DF-9141-2C7F6F2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40E9C-D9C7-4C62-8558-7B9B0078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23C-F476-4EDB-B360-0DC66B1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5E723B-B306-4022-93D4-EFFFCC05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6A20D5-8149-42F9-BEC1-C535BFC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FB99A-18D7-4CF5-A27E-ECA5526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E00580-E2D0-4BE4-9B2A-8389AF6D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7CC25-DE85-46FC-9FF4-D7E1FFE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621-3177-4374-B97C-DF099F6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DE33-2DA4-46B9-B4FD-8784CD4F0DF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1F03-8000-42B2-9DB2-0FDA7AD7B5D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FFB-8298-4B9A-AD93-AD48E0685B3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726C-A5AE-4E63-8617-20DAA18274B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681D-8303-4D1A-A6FE-233C9F7CA8BE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D92-09FD-4F3E-A4AA-75EEB12F3FD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1AE6-AA23-4E94-9352-B4355E34D80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evistaindustria.com/wp-content/uploads/2009/09/entrevista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178560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7c05"/>
                </a:solidFill>
                <a:latin typeface="Arial Unicode MS"/>
                <a:ea typeface="Arial Unicode MS"/>
              </a:rPr>
              <a:t>IDENTIDAD </a:t>
            </a:r>
            <a:br>
              <a:rPr sz="5400"/>
            </a:br>
            <a:r>
              <a:rPr b="1" lang="es-GT" sz="5400" spc="-1" strike="noStrike">
                <a:solidFill>
                  <a:srgbClr val="ff7c05"/>
                </a:solidFill>
                <a:latin typeface="Arial Unicode MS"/>
                <a:ea typeface="Arial Unicode MS"/>
              </a:rPr>
              <a:t>DE LA URL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5280" y="24210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La segunda, una </a:t>
            </a:r>
            <a:r>
              <a:rPr b="1" lang="es-ES" sz="2400" spc="-1" strike="noStrike">
                <a:solidFill>
                  <a:srgbClr val="575f6d"/>
                </a:solidFill>
                <a:latin typeface="Century Schoolbook"/>
              </a:rPr>
              <a:t>universidad católica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0" i="1" lang="es-ES" sz="2400" spc="-1" strike="noStrike">
                <a:solidFill>
                  <a:srgbClr val="575f6d"/>
                </a:solidFill>
                <a:latin typeface="Century Schoolbook"/>
              </a:rPr>
              <a:t>que le apuesta a intentar aportar al país desde una visión creyente y hacerlo desde su dimensión de universidad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La tercera característica </a:t>
            </a:r>
            <a:r>
              <a:rPr b="0" i="1" lang="es-ES" sz="2400" spc="-1" strike="noStrike">
                <a:solidFill>
                  <a:srgbClr val="575f6d"/>
                </a:solidFill>
                <a:latin typeface="Century Schoolbook"/>
              </a:rPr>
              <a:t>la Landívar es una </a:t>
            </a:r>
            <a:r>
              <a:rPr b="1" i="1" lang="es-ES" sz="2400" spc="-1" strike="noStrike">
                <a:solidFill>
                  <a:srgbClr val="575f6d"/>
                </a:solidFill>
                <a:latin typeface="Century Schoolbook"/>
              </a:rPr>
              <a:t>universidad guatemalteca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: tener como una de sus raíces esta realidad guatemalte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i="1" lang="es-ES" sz="2400" spc="-1" strike="noStrike">
                <a:solidFill>
                  <a:srgbClr val="575f6d"/>
                </a:solidFill>
                <a:latin typeface="Century Schoolbook"/>
              </a:rPr>
              <a:t>Tener a Guatemala como país, significa no encerrarse o no encapsularse en una pequeña dimensión de Guatemala y una dimensión que puede dar la espalda o puede ignorar grandes problemas de la realidad y de la composición social humana-política del país.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68360" y="259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eb687"/>
                </a:solidFill>
                <a:latin typeface="Century Schoolbook"/>
              </a:rPr>
              <a:t>¿Por qué UNIVERSIDAD RAFAEL LANDIVAR?</a:t>
            </a:r>
            <a:endParaRPr b="0" lang="en-US" sz="38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just">
              <a:lnSpc>
                <a:spcPct val="90000"/>
              </a:lnSpc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just">
              <a:lnSpc>
                <a:spcPct val="90000"/>
              </a:lnSpc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 algn="just">
              <a:lnSpc>
                <a:spcPct val="90000"/>
              </a:lnSpc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575f6d"/>
                </a:solidFill>
                <a:latin typeface="Century Schoolbook"/>
              </a:rPr>
              <a:t>Rafael Landívar es el nombre que sintetiza los valores de cultura, educación y religión ya que éstos estaban profundamente encarnados en la  vida, obra y aspiraciones del ilustre poeta guatemalteco  RAFAEL LANDIVAR.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9" name="Picture 2" descr="http://pitufo.files.wordpress.com/2006/10/landivar.jpg"/>
          <p:cNvPicPr/>
          <p:nvPr/>
        </p:nvPicPr>
        <p:blipFill>
          <a:blip r:embed="rId1"/>
          <a:stretch/>
        </p:blipFill>
        <p:spPr>
          <a:xfrm>
            <a:off x="3643200" y="1401840"/>
            <a:ext cx="2000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56760" y="571320"/>
            <a:ext cx="79297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31 –Octubre 27: Nace Landívar  en la Ciudad de Santiago de los Caballeros de Guatemala. Padres: D. Pedro Landívar y Doña Juana Xaviera Ruiz de Bustamant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49 –Septiembre: Viaje de Landívar a Méx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50 –Febrero: Ingresa en la Compañía de Jesú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55 –Recibe las ordenes sacerdot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61 –Retorno a Guatemal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65 –Profesión Religiosa en la Iglesia de los Jesuitas en Guatemal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67 –Junio 26: En la madrugada se le comunica la orden de expulsión de los Jesuitas. Inicia su odisea por puertos de América, Europa e Ital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793 –Septiembre 27: Fallece Rafael Landív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7c05"/>
                </a:solidFill>
                <a:latin typeface="Century Schoolbook"/>
              </a:rPr>
              <a:t>NUESTRO ESCU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http://www.url.edu.gt/PortalURL/Archivos/83/Universidad%20Rafael%20Landívar%20(Negro).jpg"/>
          <p:cNvPicPr/>
          <p:nvPr/>
        </p:nvPicPr>
        <p:blipFill>
          <a:blip r:embed="rId1"/>
          <a:stretch/>
        </p:blipFill>
        <p:spPr>
          <a:xfrm>
            <a:off x="2428920" y="1500120"/>
            <a:ext cx="3771720" cy="4172040"/>
          </a:xfrm>
          <a:prstGeom prst="rect">
            <a:avLst/>
          </a:prstGeom>
          <a:ln w="0">
            <a:noFill/>
          </a:ln>
        </p:spPr>
      </p:pic>
      <p:sp>
        <p:nvSpPr>
          <p:cNvPr id="373" name="6 CuadroTexto"/>
          <p:cNvSpPr/>
          <p:nvPr/>
        </p:nvSpPr>
        <p:spPr>
          <a:xfrm>
            <a:off x="832680" y="1413000"/>
            <a:ext cx="1512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La lámpara qu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representa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sabiduría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academ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9 CuadroTexto"/>
          <p:cNvSpPr/>
          <p:nvPr/>
        </p:nvSpPr>
        <p:spPr>
          <a:xfrm>
            <a:off x="77040" y="4857840"/>
            <a:ext cx="1930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Nombre de 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institución, ciud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donde fue fundada 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año de fund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11 Conector recto de flecha"/>
          <p:cNvCxnSpPr/>
          <p:nvPr/>
        </p:nvCxnSpPr>
        <p:spPr>
          <a:xfrm flipH="1" flipV="1">
            <a:off x="2356920" y="1499400"/>
            <a:ext cx="1572480" cy="11437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6" name="14 Conector recto de flecha"/>
          <p:cNvCxnSpPr/>
          <p:nvPr/>
        </p:nvCxnSpPr>
        <p:spPr>
          <a:xfrm flipV="1">
            <a:off x="4572000" y="1699920"/>
            <a:ext cx="1296000" cy="8006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7" name="15 CuadroTexto"/>
          <p:cNvSpPr/>
          <p:nvPr/>
        </p:nvSpPr>
        <p:spPr>
          <a:xfrm>
            <a:off x="5872680" y="1557360"/>
            <a:ext cx="2003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La cruz símbol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Fe cristi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17 Conector recto de flecha"/>
          <p:cNvCxnSpPr/>
          <p:nvPr/>
        </p:nvCxnSpPr>
        <p:spPr>
          <a:xfrm flipH="1">
            <a:off x="1856520" y="4785120"/>
            <a:ext cx="1429560" cy="7153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79" name="20 CuadroTexto"/>
          <p:cNvSpPr/>
          <p:nvPr/>
        </p:nvSpPr>
        <p:spPr>
          <a:xfrm>
            <a:off x="221400" y="3143160"/>
            <a:ext cx="21952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Árbol típico de la reg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de Castilla y León. 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la derecha un torre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como símbolo de l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tradición hispán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24 Conector recto de flecha"/>
          <p:cNvCxnSpPr/>
          <p:nvPr/>
        </p:nvCxnSpPr>
        <p:spPr>
          <a:xfrm flipH="1" flipV="1">
            <a:off x="2356560" y="3499560"/>
            <a:ext cx="114372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1" name="26 Conector recto de flecha"/>
          <p:cNvCxnSpPr/>
          <p:nvPr/>
        </p:nvCxnSpPr>
        <p:spPr>
          <a:xfrm flipH="1">
            <a:off x="2214360" y="3571920"/>
            <a:ext cx="2715120" cy="7200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2" name="28 Conector recto de flecha"/>
          <p:cNvCxnSpPr/>
          <p:nvPr/>
        </p:nvCxnSpPr>
        <p:spPr>
          <a:xfrm>
            <a:off x="4357440" y="3785760"/>
            <a:ext cx="2215080" cy="252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3" name="29 CuadroTexto"/>
          <p:cNvSpPr/>
          <p:nvPr/>
        </p:nvSpPr>
        <p:spPr>
          <a:xfrm>
            <a:off x="6649920" y="3000240"/>
            <a:ext cx="2152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Al centro aparecen 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Volcanes, el mar y u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Quetzal, represent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El nuevo mundo. To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El campo simboliza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parte cultural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Guatemala. (raíc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31 Conector recto de flecha"/>
          <p:cNvCxnSpPr/>
          <p:nvPr/>
        </p:nvCxnSpPr>
        <p:spPr>
          <a:xfrm>
            <a:off x="4429080" y="4428720"/>
            <a:ext cx="1572480" cy="8578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5" name="32 CuadroTexto"/>
          <p:cNvSpPr/>
          <p:nvPr/>
        </p:nvSpPr>
        <p:spPr>
          <a:xfrm>
            <a:off x="5937840" y="5214960"/>
            <a:ext cx="29512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Abajo aparecen dos lob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con un caldero, parte d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escudo de Loyola y simboliz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a la tradición académica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595d63"/>
                </a:solidFill>
                <a:latin typeface="Arial"/>
              </a:rPr>
              <a:t>siglos de la Compañía de Jesú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PRIMER RECTOR DE LA UR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DR. JOSE FALLA ARIS (1960-1967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2" descr="http://www.colegioabogadosynotarios.org.gt/contents/module-data/809C3FB7-42BB-F537-A589-C152D9A30D62/4393D058-32AF-E7CA-A08A-99D752A74B9B"/>
          <p:cNvPicPr/>
          <p:nvPr/>
        </p:nvPicPr>
        <p:blipFill>
          <a:blip r:embed="rId1"/>
          <a:stretch/>
        </p:blipFill>
        <p:spPr>
          <a:xfrm>
            <a:off x="2771640" y="2637000"/>
            <a:ext cx="3562560" cy="3562200"/>
          </a:xfrm>
          <a:prstGeom prst="rect">
            <a:avLst/>
          </a:prstGeom>
          <a:ln w="0">
            <a:noFill/>
          </a:ln>
        </p:spPr>
      </p:pic>
      <p:sp>
        <p:nvSpPr>
          <p:cNvPr id="389" name="4 CuadroTexto"/>
          <p:cNvSpPr/>
          <p:nvPr/>
        </p:nvSpPr>
        <p:spPr>
          <a:xfrm>
            <a:off x="6588000" y="3284640"/>
            <a:ext cx="2016360" cy="1739880"/>
          </a:xfrm>
          <a:prstGeom prst="rect">
            <a:avLst/>
          </a:prstGeom>
          <a:solidFill>
            <a:srgbClr val="feb6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Arial"/>
              </a:rPr>
              <a:t>El Rector es la máxima autoridad académica de una institución  de educación sup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RECTOR ACTUAL DE LA UR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69192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0000"/>
                </a:solidFill>
                <a:latin typeface="Century Schoolbook"/>
              </a:rPr>
              <a:t>AUTORIDADES UNIVERSITARI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2" descr="entrevist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3213000"/>
            <a:ext cx="2949480" cy="3240360"/>
          </a:xfrm>
          <a:prstGeom prst="rect">
            <a:avLst/>
          </a:prstGeom>
          <a:ln w="0">
            <a:noFill/>
          </a:ln>
        </p:spPr>
      </p:pic>
      <p:sp>
        <p:nvSpPr>
          <p:cNvPr id="393" name="7 Rectángulo"/>
          <p:cNvSpPr/>
          <p:nvPr/>
        </p:nvSpPr>
        <p:spPr>
          <a:xfrm>
            <a:off x="250920" y="198900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s-GT" sz="2800" spc="-1" strike="noStrike">
                <a:solidFill>
                  <a:srgbClr val="000000"/>
                </a:solidFill>
                <a:latin typeface="Corbel"/>
              </a:rPr>
              <a:t>P. ROLANDO ALVARADO  (2009 a la fech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3 Marcador de contenido" descr=""/>
          <p:cNvPicPr/>
          <p:nvPr/>
        </p:nvPicPr>
        <p:blipFill>
          <a:blip r:embed="rId1"/>
          <a:stretch/>
        </p:blipFill>
        <p:spPr>
          <a:xfrm>
            <a:off x="463680" y="1371600"/>
            <a:ext cx="8242200" cy="5505480"/>
          </a:xfrm>
          <a:prstGeom prst="rect">
            <a:avLst/>
          </a:prstGeom>
          <a:ln w="0">
            <a:noFill/>
          </a:ln>
        </p:spPr>
      </p:pic>
      <p:sp>
        <p:nvSpPr>
          <p:cNvPr id="395" name="4 CuadroTexto"/>
          <p:cNvSpPr/>
          <p:nvPr/>
        </p:nvSpPr>
        <p:spPr>
          <a:xfrm>
            <a:off x="826920" y="18900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800" spc="-1" strike="noStrike">
                <a:solidFill>
                  <a:srgbClr val="feb687"/>
                </a:solidFill>
                <a:latin typeface="Century Schoolbook"/>
              </a:rPr>
              <a:t>ENTES QUE DIRIGEN </a:t>
            </a:r>
            <a:r>
              <a:rPr b="1" lang="es-ES" sz="2800" spc="-1" strike="noStrike">
                <a:solidFill>
                  <a:srgbClr val="feb687"/>
                </a:solidFill>
                <a:latin typeface="Century Schoolbook"/>
              </a:rPr>
              <a:t>LA UNIVERSIDAD  RAFAEL LANDIV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FACULTAD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76262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75103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HISTORIA UR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Fecha de Fundación: 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8 de octubre de 196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Fecha de inicio de actividades educativas en la Universidad: 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22 de enero de 1962 en las instalaciones del Liceo Guatemal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Facultades que iniciaron clases: 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Ciencias Económicas y Empresariales, Humanidades y Ciencias Jurídicas y soci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No. de estudiantes que iniciaron: 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3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Inicio de actividades en el Campus Central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: enero de 1974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3 Marcador de contenido" descr=""/>
          <p:cNvPicPr/>
          <p:nvPr/>
        </p:nvPicPr>
        <p:blipFill>
          <a:blip r:embed="rId1"/>
          <a:stretch/>
        </p:blipFill>
        <p:spPr>
          <a:xfrm>
            <a:off x="438120" y="1536840"/>
            <a:ext cx="758988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50 AÑOS DESPUÉS ATIEND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1628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Pobl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13000 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muje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12000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homb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25,000  alumnos en to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Personal Académico y Administrativ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Profesores/ Investigadores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2,4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Personal Administrativo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2,3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Egresados durante la histor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ctr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36,905 profesion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000" spc="-1" strike="noStrike">
                <a:solidFill>
                  <a:srgbClr val="575f6d"/>
                </a:solidFill>
                <a:latin typeface="Century Schoolbook"/>
              </a:rPr>
              <a:t>MISION &amp; VISION DE LA URL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575f6d"/>
                </a:solidFill>
                <a:latin typeface="Century Schoolbook"/>
              </a:rPr>
              <a:t>MISION &amp; VISION –DEFINICIONES-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i="1" lang="es-GT" sz="2400" spc="-1" strike="noStrike">
                <a:solidFill>
                  <a:srgbClr val="000000"/>
                </a:solidFill>
                <a:latin typeface="Century Schoolbook"/>
              </a:rPr>
              <a:t>misión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es un importante elemento de la planificación estratégica porque es a partir de ésta </a:t>
            </a:r>
            <a:r>
              <a:rPr b="0" i="1" lang="es-GT" sz="2400" spc="-1" strike="noStrike">
                <a:solidFill>
                  <a:srgbClr val="000000"/>
                </a:solidFill>
                <a:latin typeface="Century Schoolbook"/>
              </a:rPr>
              <a:t>que se formulan objetivos detallados que son los que guiarán a la organizació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i="1" lang="es-GT" sz="2400" spc="-1" strike="noStrike">
                <a:solidFill>
                  <a:srgbClr val="000000"/>
                </a:solidFill>
                <a:latin typeface="Century Schoolbook"/>
              </a:rPr>
              <a:t>misión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es el motivo, propósito, fin o razón de ser de la existencia de una organización porque define: </a:t>
            </a: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1)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lo que pretende cumplir en su entorno o sistema social en el que actúa; </a:t>
            </a: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2)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lo que pretende hacer, y </a:t>
            </a:r>
            <a:r>
              <a:rPr b="1" lang="es-GT" sz="2400" spc="-1" strike="noStrike">
                <a:solidFill>
                  <a:srgbClr val="000000"/>
                </a:solidFill>
                <a:latin typeface="Century Schoolbook"/>
              </a:rPr>
              <a:t>3)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el para quién lo va a hacer; y es influenciada en momentos concretos por algunos elementos como: la historia de la organización, los factores externos o del entorno, los recursos disponibles, y sus capacidades distintiv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56760" y="428760"/>
            <a:ext cx="792972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i="1" lang="es-GT" sz="2400" spc="-1" strike="noStrike">
                <a:solidFill>
                  <a:srgbClr val="000000"/>
                </a:solidFill>
                <a:latin typeface="Century Schoolbook"/>
              </a:rPr>
              <a:t>visión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se define como el camino al cual se dirige la organización a largo plazo y sirve de rumbo y aliciente para orientar las decisiones estratégicas de crecimiento junto a las de competitivida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i="1" lang="es-GT" sz="2400" spc="-1" strike="noStrike">
                <a:solidFill>
                  <a:srgbClr val="000000"/>
                </a:solidFill>
                <a:latin typeface="Century Schoolbook"/>
              </a:rPr>
              <a:t>visión</a:t>
            </a:r>
            <a:r>
              <a:rPr b="0" lang="es-GT" sz="2400" spc="-1" strike="noStrike">
                <a:solidFill>
                  <a:srgbClr val="000000"/>
                </a:solidFill>
                <a:latin typeface="Century Schoolbook"/>
              </a:rPr>
              <a:t> es una exposición clara que indica hacia dónde se dirige la organización a largo plazo y en qué se deberá convertir, tomando en cuenta el impacto de las nuevas tecnologías, de las necesidades y expectativas cambiantes de los clientes, de la aparición de nuevas condiciones del mercado, et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MISIÓN DE LA UR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La URL es una institución de </a:t>
            </a:r>
            <a:r>
              <a:rPr b="1" lang="es-ES" sz="2400" spc="-1" strike="noStrike">
                <a:solidFill>
                  <a:srgbClr val="575f6d"/>
                </a:solidFill>
                <a:latin typeface="Century Schoolbook"/>
              </a:rPr>
              <a:t>educación superior, católica, guatemalteca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, independiente y no lucrativa, de inspiración cristiana, visión católica y tradición jesuí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575f6d"/>
                </a:solidFill>
                <a:latin typeface="Century Schoolbook"/>
              </a:rPr>
              <a:t>La URL en búsqueda de la verdad por medio de sus funciones de investigación, docencia y proyección social, se compromete a contribuir al desarrollo integral y sostenible, transformando a la persona y la sociedad hacia dimensiones cada vez mas humanas, justas inclusivas y libr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000" spc="-1" strike="noStrike">
                <a:solidFill>
                  <a:srgbClr val="ff7c05"/>
                </a:solidFill>
                <a:latin typeface="Century Schoolbook"/>
              </a:rPr>
              <a:t>VISIÓN DE LA UR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85840" y="1483920"/>
            <a:ext cx="822960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575f6d"/>
                </a:solidFill>
                <a:latin typeface="Century Schoolbook"/>
              </a:rPr>
              <a:t>Se destaca como una universidad de </a:t>
            </a:r>
            <a:r>
              <a:rPr b="1" i="1" lang="es-ES" sz="2200" spc="-1" strike="noStrike" u="sng">
                <a:solidFill>
                  <a:srgbClr val="575f6d"/>
                </a:solidFill>
                <a:uFillTx/>
                <a:latin typeface="Century Schoolbook"/>
              </a:rPr>
              <a:t>Excelencia , </a:t>
            </a:r>
            <a:r>
              <a:rPr b="1" lang="es-ES" sz="2200" spc="-1" strike="noStrike">
                <a:solidFill>
                  <a:srgbClr val="575f6d"/>
                </a:solidFill>
                <a:latin typeface="Century Schoolbook"/>
              </a:rPr>
              <a:t>precursora y consecuente con su misión de servicio evangélico al país y la reg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 diferentes perspectiva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su objetivo: comunidad motivada, coordinada, comprometida  y servici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la investigación: Incrementa el patrimonio cultural e intelectual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la docencia: preparación de profesionales competent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la proyección social: Sustentada en la fe y la justici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38120" indent="-318960" algn="just">
              <a:lnSpc>
                <a:spcPct val="90000"/>
              </a:lnSpc>
              <a:buClr>
                <a:srgbClr val="fe8637"/>
              </a:buClr>
              <a:buSzPct val="70000"/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200" spc="-1" strike="noStrike">
                <a:solidFill>
                  <a:srgbClr val="575f6d"/>
                </a:solidFill>
                <a:latin typeface="Century Schoolbook"/>
              </a:rPr>
              <a:t>Desde  la Gestión Administrativa, sistema universitario eficaz y eficient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400" spc="-1" strike="noStrike">
                <a:solidFill>
                  <a:srgbClr val="ff7c05"/>
                </a:solidFill>
                <a:latin typeface="Century Schoolbook"/>
              </a:rPr>
              <a:t>RAICES DE LA IDENTIDAD</a:t>
            </a:r>
            <a:br>
              <a:rPr sz="3400"/>
            </a:br>
            <a:r>
              <a:rPr b="0" lang="es-GT" sz="3400" spc="-1" strike="noStrike">
                <a:solidFill>
                  <a:srgbClr val="000000"/>
                </a:solidFill>
                <a:latin typeface="Century Schoolbook"/>
              </a:rPr>
              <a:t>DISCURSO MONSEÑOR GONZALO DE VILLA (2002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360" y="263664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La primera característica es </a:t>
            </a:r>
            <a:r>
              <a:rPr b="1" i="1" lang="es-ES" sz="2400" spc="-1" strike="noStrike">
                <a:solidFill>
                  <a:srgbClr val="575f6d"/>
                </a:solidFill>
                <a:latin typeface="Century Schoolbook"/>
              </a:rPr>
              <a:t>ser universidad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: </a:t>
            </a:r>
            <a:r>
              <a:rPr b="0" i="1" lang="es-ES" sz="2400" spc="-1" strike="noStrike">
                <a:solidFill>
                  <a:srgbClr val="575f6d"/>
                </a:solidFill>
                <a:latin typeface="Century Schoolbook"/>
              </a:rPr>
              <a:t>amplitud, pluralidad abierta a distintas corrientes de pensamiento, interesada en la promoción del conocimiento y en su profundización... interesada no sólo en saber dar respuestas, sino en  plantearse preguntas.</a:t>
            </a: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4:22:10Z</dcterms:created>
  <dc:creator>hcmazari</dc:creator>
  <dc:description/>
  <dc:language>en-US</dc:language>
  <cp:lastModifiedBy>América</cp:lastModifiedBy>
  <dcterms:modified xsi:type="dcterms:W3CDTF">2012-02-03T14:54:43Z</dcterms:modified>
  <cp:revision>70</cp:revision>
  <dc:subject/>
  <dc:title>IDENTIDAD  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